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230A-493A-4D24-BE35-0F02BDD96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D5B5-DD7F-4DCF-82CB-0534DD999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A5F1-7CBE-404A-B453-031526995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DA37-D156-46AC-8D6B-CADB0DF28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8C9F-6C4B-42CC-926C-97488A5B7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D725-8A46-4607-8B31-A8494E557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02D7-D502-4494-957E-646969221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FA09-7033-4628-994D-F3A0A33FC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AB53-78BB-4CC5-9E93-31AA2DB1F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F0AF-4B1F-4494-BA77-3DFD9155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BE0B-EAEC-4DB4-A872-D3EFEF6E8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11FA-E20B-472E-AB6F-018027FBA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FF315-9D64-405D-A4C1-A76C105969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sing the Process Journ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ions for types of jour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A combination of recording style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process journal does not have to be a book or a film or a website. It could be a combination of all of thes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process journal could be conceived as an installation that shows the multidisciplinary nature of the proces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process journal could contain evidence of all these different styles collected in a book or a websit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Process Journal is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026720"/>
            <a:ext cx="9618480" cy="776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lace for 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lace for recording interactions with sources, for example, teachers, supervisors, external contribu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lace for storing useful information—quotes, pictures, id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eans of exploring id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lace for reflection on stages of the pro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lace for evaluating work comple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lace for reflecting on lear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ised by the student in a format that suits his or her nee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ful for the student when receiving formative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by the student to produce the project repor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Process Journal is no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on a daily basis (unless this is useful for the stude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ten up after the process has been comple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al work on top of the project; it is part of and supports the pro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iary with detailed writing about what was d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tatic document with only one forma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Documenting the process might include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•          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ind Maps®</a:t>
            </a:r>
            <a:br>
              <a:rPr sz="2700"/>
            </a:b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•          bullet lists</a:t>
            </a:r>
            <a:br>
              <a:rPr sz="2700"/>
            </a:b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•          charts</a:t>
            </a:r>
            <a:br>
              <a:rPr sz="2700"/>
            </a:b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•          short paragraphs</a:t>
            </a:r>
            <a:br>
              <a:rPr sz="2700"/>
            </a:b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•          notes</a:t>
            </a:r>
            <a:br>
              <a:rPr sz="2700"/>
            </a:b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•          timelines</a:t>
            </a:r>
            <a:br>
              <a:rPr sz="2700"/>
            </a:b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•          annotated illustrations</a:t>
            </a:r>
            <a:br>
              <a:rPr sz="2700"/>
            </a:b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•          pictures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5880" y="303120"/>
            <a:ext cx="9654840" cy="12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A website or blog may be an effective process journal when: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sed to record important documen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hared with the superviso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cludes visual records as well as written record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hronicles the key moments of the proces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keeps all of the process in a secure loc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cludes audio record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cludes interactive components such 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mment space for superviso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mment space for guest viewers or research expe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ive conversation/video contact link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t is password protected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5880" y="303120"/>
            <a:ext cx="9654840" cy="12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An annotated slide show may be an effective process journal when: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mages such as photographs and video clips chronicle the process of the projec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mages are arranged in a logical ord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nnotations such as titles and comments explain the w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orking with images is a key communication tool of the studen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clude audio clips (music or voice recordings that convey aspects of the process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5880" y="303120"/>
            <a:ext cx="9654840" cy="12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A scrap book may be an effective process journal when: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vidence is arranged in a logical sequence (this could include collage and mind map work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tems are annotate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tems are dated to show chronolog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bjects that reveal the nature of the project are included such as samples of textiles, colour swatch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 variety of materials are use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t allows the student to effectively communicate the proces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5880" y="303120"/>
            <a:ext cx="9654840" cy="12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A Word Document may be an effective process journal when: 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process is clearly chronicle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ind maps, planning and brainstorming is include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mments and thoughts are written to explain the proces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mages may be inserted to show evidence of produc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format allows the student to communicate the process effectively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5880" y="303120"/>
            <a:ext cx="9654840" cy="12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A video journal is an effective process journal when: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footage is edited to show the proces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key moments of the entire the process are recorded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journal is shared with the superviso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journal allows the student the opportunity to convey the richness of the underta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cludes research and creation process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cludes interview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cludes commentary from supporters/ mentor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Rajashree</cp:lastModifiedBy>
  <dcterms:modified xsi:type="dcterms:W3CDTF">2011-11-29T04:40:09Z</dcterms:modified>
  <cp:revision>3</cp:revision>
  <dc:subject/>
  <dc:title>PowerPoint Presentation</dc:title>
</cp:coreProperties>
</file>